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E00-5110-4039-BC12-FC5AFD940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22E-1455-4E2B-9CC6-5F53CF8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5C87-BBB6-4E61-A86B-05EE7DF5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DBF-1087-4A04-BD63-CD27C19A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E81B-E932-4CB7-B044-03F06905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0DAA-A29A-42B4-964F-E52C0B9E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4B7BA-D52C-4E55-8BDF-C760E084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51DD-72BD-429F-A966-D244C0AE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A25C-4B72-416A-B67B-2F18F0BD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C057-DECC-4E54-B5F8-9E712DEE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6B02-789D-4823-9273-69E15D71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A1AB-160B-43CE-AC01-2ACA9F34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4A7C-EC56-4A3E-B074-29A88416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5D3D-0BD8-4EDB-AEE5-D782F6A4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B0A5-6F4E-4ABD-93A8-FC17C8B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3B41-818D-48F4-87D7-5293406A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CEB5-DD18-46FD-A555-62DBE436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C4B-ED1E-4ACA-A289-B94B9094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3A5-F604-48CB-803C-EC96C9C3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23F-1378-497A-86B3-0E2F49F6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0877-180E-40B8-98CB-AF5C4F6B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EC7-B261-429A-84CA-FD0E2063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203B-52E6-44C4-87CE-3DE8FBF0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B4F-3951-4669-AE86-F9AD02AA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7EE25-E443-48B2-9EA2-973760A407C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B36E9-05CC-4498-A6FE-A4A9E07ACC2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9399A9-8AB4-4F59-B91B-C8F174E860E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CCD1B-2B2E-4B86-AE3F-9A2375C77009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4100"/>
            </a:b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7848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orifera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(Sponges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1133640" y="1600200"/>
            <a:ext cx="687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ymmetric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2286000"/>
            <a:ext cx="8042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picules (bone-like particle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ssile (don’t mov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sexual: Budding, Regeneration, Gemm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 Hermaphrodi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49000" y="2286000"/>
            <a:ext cx="8042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rried out by specialized cells: collar cells &amp; ameobocy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2362320"/>
            <a:ext cx="80420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 across cell membranes; water &amp; waste expelled though osculu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23:05:36Z</dcterms:created>
  <dc:creator>Keith or Sherri Holmgren</dc:creator>
  <dc:description/>
  <dc:language>en-US</dc:language>
  <cp:lastModifiedBy>NHS NPS</cp:lastModifiedBy>
  <dcterms:modified xsi:type="dcterms:W3CDTF">2012-05-15T12:33:36Z</dcterms:modified>
  <cp:revision>4</cp:revision>
  <dc:subject/>
  <dc:title>Animal Phyla Chart</dc:title>
</cp:coreProperties>
</file>